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630-7284-4B89-8063-6E13EF41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DBF-C5AB-46C8-B74D-C44216C1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70A-1954-4CBE-A183-481D68AB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9B8-9AFC-4FFA-BBD8-5DE03EDA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FFC-B284-464E-9DF0-5491ED53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D7E-CE05-401A-982B-BEE35887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F1E-4321-4F2A-8B37-5E386FBD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82C-B82A-4D45-81C5-6273A517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E05-AB75-4A81-9A30-04150D87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E41-D8F9-44AE-BC35-87D3E54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9DD-0DD9-477E-8FF8-969B7BA0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44F-2F64-4336-8A93-D556A94A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A7E8-8691-4A42-A0C0-6EB87A30A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otary.org/" TargetMode="External"/><Relationship Id="rId2" Type="http://schemas.openxmlformats.org/officeDocument/2006/relationships/hyperlink" Target="mailto:rogervince@bigpond.com" TargetMode="External"/><Relationship Id="rId3" Type="http://schemas.openxmlformats.org/officeDocument/2006/relationships/hyperlink" Target="http://www.strathfieldrotary.org.a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Arial"/>
              </a:rPr>
              <a:t>To Vi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Arial"/>
              </a:rPr>
              <a:t>mouse c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NTE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strict 9690 Assembly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oger Vi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at is Inter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78598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3200" spc="-1" strike="noStrike">
                <a:solidFill>
                  <a:srgbClr val="333399"/>
                </a:solidFill>
                <a:latin typeface="Arial"/>
              </a:rPr>
              <a:t>Interact is an international organization that fosters leadership and responsible citizenship and promotes international understanding and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51280" y="404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Cl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name was created by combining the words "international" and "action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eract is a service club for young people ages 14-1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ubs take a variety of forms, both single-gender and mixed as well as large and sm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membership base of a club can be drawn from the student body of a single school or from two or more schools from the same commun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Rotary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act clubs are sponsored by Rotary clubs as a program of Rotary Internation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otary clubs provide guidance and inspi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act clubs are self-governing and self-suppo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475308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Nature of a Cl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 school-based or community-bas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ave a Rotarian adviser and a faculty adviser for school-based club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et at least twice a mon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actors must attend 60% of regularly scheduled meeting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quire no financial support from the sponsoring Rotary clu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rochure as a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rd copies of brochure 600/EN and handbook 654/EN are available at RI Parramatta Office 2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Floor 100 George St, Parramatta telephone 9635 3537 Downloadable copies from RI website </a:t>
            </a:r>
            <a:r>
              <a:rPr b="0" lang="en-A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otary.org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click on the “students and Youth” tab then click on Interact then look at the links under related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rict Committee: Chairperson, contact me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gervince@bigpon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lide Show / talk online at </a:t>
            </a:r>
            <a:r>
              <a:rPr b="0" lang="en-A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trathfieldrotary.org.au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croll to the interact link (note: brochure and handbook are also available at this web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1:47:01Z</dcterms:created>
  <dc:creator>Raymond McCluskie</dc:creator>
  <dc:description/>
  <dc:language>en-US</dc:language>
  <cp:lastModifiedBy>Raymond McCluskie</cp:lastModifiedBy>
  <dcterms:modified xsi:type="dcterms:W3CDTF">2009-05-01T19:56:03Z</dcterms:modified>
  <cp:revision>10</cp:revision>
  <dc:subject/>
  <dc:title>INTERACT</dc:title>
</cp:coreProperties>
</file>